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F6D-6D31-4A27-8B52-FE7F5A3A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7DD-E867-4EC5-984C-F3675E91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7C4-4F39-4889-8513-210BEDE5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C97-9726-4846-9AA0-425D0F12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328-EAC9-4C2C-AF8E-A30EF313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45F-74A8-4701-8A16-0B0986D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C99-D385-450D-B81D-071C4A00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6D4-E36C-43BE-91EA-E233970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F3A-36FA-4E1E-A927-14CAEA6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965-539B-4E68-8841-E8D0A5A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723-E88E-42C4-A664-7CCDB7A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1E8-BCCF-4A2E-B12B-580F9BB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CA7-9C18-4A85-BB1F-63C0B4D0D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dgf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gsd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8:16:51Z</dcterms:created>
  <dc:creator>Kalli B. Falkner</dc:creator>
  <dc:description/>
  <dc:language>en-US</dc:language>
  <cp:lastModifiedBy>Kalli B. Falkner</cp:lastModifiedBy>
  <dcterms:modified xsi:type="dcterms:W3CDTF">2012-01-24T18:17:17Z</dcterms:modified>
  <cp:revision>1</cp:revision>
  <dc:subject/>
  <dc:title>sdg</dc:title>
</cp:coreProperties>
</file>